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.wmf" ContentType="image/x-wmf"/>
  <Override PartName="/ppt/media/image28.png" ContentType="image/png"/>
  <Override PartName="/ppt/media/image27.png" ContentType="image/png"/>
  <Override PartName="/ppt/media/image26.png" ContentType="image/png"/>
  <Override PartName="/ppt/media/image5.wmf" ContentType="image/x-wmf"/>
  <Override PartName="/ppt/media/image10.png" ContentType="image/png"/>
  <Override PartName="/ppt/media/image11.png" ContentType="image/png"/>
  <Override PartName="/ppt/media/image6.wmf" ContentType="image/x-wmf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30.png" ContentType="image/png"/>
  <Override PartName="/ppt/media/image4.wmf" ContentType="image/x-wmf"/>
  <Override PartName="/ppt/media/image3.wmf" ContentType="image/x-wmf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A6BE-3635-4B01-BC3C-A53817E74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B6A2-D98D-44EA-AAC2-AE54AC7BA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EAA5-B340-4D2A-89B5-635DD62CB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B082-AA88-4855-A93C-B60F8B01A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42DD-03C5-485F-9DBE-AE0255778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5DE9-AE0E-4688-9DF6-958270F56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4059-DE53-47BD-B5FD-BA2639A7C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E537-2339-4E18-89F0-9085A1666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DB83-9B62-4878-9A89-DD98DF93F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E501-C07D-4737-9E3D-8AEC3646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9120-3D92-4B64-91CD-DA2047F28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E271-6420-46B4-A6FB-4E023BFB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6BB27-033A-44B9-AB9F-5864B6E7517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2057400"/>
            <a:ext cx="838188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Measures of </a:t>
            </a:r>
            <a:br>
              <a:rPr sz="6000"/>
            </a:b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Disease Frequency</a:t>
            </a:r>
            <a:br>
              <a:rPr sz="6000"/>
            </a:b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(part 1)</a:t>
            </a:r>
            <a:br>
              <a:rPr sz="6000"/>
            </a:br>
            <a:endParaRPr b="0" lang="en-US" sz="6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238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2388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553080" cy="22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600200" y="1828800"/>
            <a:ext cx="61722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4008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71629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4678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1629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69608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391520" cy="46483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House Guest Exam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Hypothetical data on the frequency of hepatitis in two cities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                                                                  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Location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New cases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Year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     Pop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ity A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    58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002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5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ity B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    35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    2001-2002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 7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70102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1629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70102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2392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238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143000" y="762120"/>
            <a:ext cx="70102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219320" y="838080"/>
            <a:ext cx="70102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2392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5438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3152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                                                              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Location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New cases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Year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     Pop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ity A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    58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002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5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ity B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    35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    2001-2002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 7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Annual rate of occurrence of hepatiti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ity A:  58 / 25,000 / 1 year =  232/10</a:t>
            </a:r>
            <a:r>
              <a:rPr b="1" lang="en-US" sz="2800" spc="-1" strike="noStrike" baseline="34000">
                <a:solidFill>
                  <a:srgbClr val="000099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/ y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ity B:  35 / 7000 / 2 years = 17.5 / 7000 / 1 yea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= 250/10</a:t>
            </a:r>
            <a:r>
              <a:rPr b="1" lang="en-US" sz="2800" spc="-1" strike="noStrike" baseline="34000">
                <a:solidFill>
                  <a:srgbClr val="000099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/ y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Hypothetical data on the frequency of hepatitis in two cities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9152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16256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1629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4674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162920" cy="50292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066680" y="5638680"/>
            <a:ext cx="4724640" cy="5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Ratios, Proportions, Rat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ree general classes of mathematical paramet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•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Often used to relate the number of cases of a disease or health outcome to the size of the source population in which they occurr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Ratio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•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Obtained by dividing one quantity by another.  These quantities may be related or may be totally independ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•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Usually expressed 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Example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Number of stillbirths per thousand live birth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General term that includes Rates and Propor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864400" y="1600200"/>
            <a:ext cx="3279600" cy="2185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864400" y="1600200"/>
            <a:ext cx="3279600" cy="2185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743200" y="4343400"/>
            <a:ext cx="2514600" cy="838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4267080" y="2438280"/>
            <a:ext cx="1143000" cy="108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Proporti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•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 ratio in which the numerator is included in the denominat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•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xpressed as: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here, 10</a:t>
            </a:r>
            <a:r>
              <a:rPr b="1" lang="en-US" sz="2400" spc="-1" strike="noStrike" baseline="30000">
                <a:solidFill>
                  <a:srgbClr val="000099"/>
                </a:solidFill>
                <a:latin typeface="Arial"/>
              </a:rPr>
              <a:t>n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s often 1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Exampl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:  The number of fetal deaths out of the total number of birth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•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nswer often read as a perc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4648320"/>
            <a:ext cx="4038480" cy="954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429000" y="2133720"/>
            <a:ext cx="1219320" cy="1087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2666880" y="4114800"/>
            <a:ext cx="4191120" cy="90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Rate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•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 measure of how quickly something of interest happens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•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xpressed 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Exampl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:  The number of new cases of Parkinson’s disease which develops per 1,000 person-years of follow-u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•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ime, place and population must be specified for each type of ra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864400" y="1600200"/>
            <a:ext cx="3279600" cy="2185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676520" y="4343400"/>
            <a:ext cx="6248160" cy="874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3352680" y="2286000"/>
            <a:ext cx="1143000" cy="10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asures of Disease Frequency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e701"/>
                </a:solidFill>
                <a:uFillTx/>
                <a:latin typeface="Arial"/>
              </a:rPr>
              <a:t>Incidence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 (I):</a:t>
            </a:r>
            <a:r>
              <a:rPr b="0" lang="en-US" sz="2800" spc="-1" strike="noStrike">
                <a:solidFill>
                  <a:srgbClr val="ffe701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Measures</a:t>
            </a:r>
            <a:r>
              <a:rPr b="0" lang="en-US" sz="2800" spc="-1" strike="noStrike">
                <a:solidFill>
                  <a:srgbClr val="ffe701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e701"/>
                </a:solidFill>
                <a:uFillTx/>
                <a:latin typeface="Arial"/>
              </a:rPr>
              <a:t>new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 cases of a disease that develop over a period of tim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538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38ca"/>
                </a:solidFill>
                <a:uFillTx/>
                <a:latin typeface="Arial"/>
              </a:rPr>
              <a:t>Prevalence</a:t>
            </a:r>
            <a:r>
              <a:rPr b="1" lang="en-US" sz="2800" spc="-1" strike="noStrike">
                <a:solidFill>
                  <a:srgbClr val="a538ca"/>
                </a:solidFill>
                <a:latin typeface="Arial"/>
              </a:rPr>
              <a:t> (P):  Measures </a:t>
            </a:r>
            <a:r>
              <a:rPr b="1" lang="en-US" sz="2800" spc="-1" strike="noStrike" u="sng">
                <a:solidFill>
                  <a:srgbClr val="a538ca"/>
                </a:solidFill>
                <a:uFillTx/>
                <a:latin typeface="Arial"/>
              </a:rPr>
              <a:t>existing</a:t>
            </a:r>
            <a:r>
              <a:rPr b="1" lang="en-US" sz="2800" spc="-1" strike="noStrike">
                <a:solidFill>
                  <a:srgbClr val="a538ca"/>
                </a:solidFill>
                <a:latin typeface="Arial"/>
              </a:rPr>
              <a:t> cases of a disease at a particular point in time or over a period of ti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Prevalence vs. Incidenc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14111" t="15269" r="7598" b="31662"/>
          <a:stretch/>
        </p:blipFill>
        <p:spPr>
          <a:xfrm>
            <a:off x="2438280" y="1066680"/>
            <a:ext cx="4496040" cy="23623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657240"/>
            <a:ext cx="8229600" cy="21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99"/>
                </a:solidFill>
                <a:latin typeface="Arial"/>
              </a:rPr>
              <a:t>•</a:t>
            </a:r>
            <a:r>
              <a:rPr b="1" lang="en-US" sz="2300" spc="-1" strike="noStrike">
                <a:solidFill>
                  <a:srgbClr val="00b000"/>
                </a:solidFill>
                <a:latin typeface="Arial"/>
              </a:rPr>
              <a:t> </a:t>
            </a:r>
            <a:r>
              <a:rPr b="1" lang="en-US" sz="2300" spc="-1" strike="noStrike" u="sng">
                <a:solidFill>
                  <a:srgbClr val="a538ca"/>
                </a:solidFill>
                <a:uFillTx/>
                <a:latin typeface="Arial"/>
              </a:rPr>
              <a:t>Prevalence</a:t>
            </a:r>
            <a:r>
              <a:rPr b="1" lang="en-US" sz="2300" spc="-1" strike="noStrike">
                <a:solidFill>
                  <a:srgbClr val="a538ca"/>
                </a:solidFill>
                <a:latin typeface="Arial"/>
              </a:rPr>
              <a:t> can be viewed as describing a pool of disease in a population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e701"/>
                </a:solidFill>
                <a:latin typeface="Arial"/>
              </a:rPr>
              <a:t>•  </a:t>
            </a:r>
            <a:r>
              <a:rPr b="1" lang="en-US" sz="2300" spc="-1" strike="noStrike" u="sng">
                <a:solidFill>
                  <a:srgbClr val="ffe701"/>
                </a:solidFill>
                <a:uFillTx/>
                <a:latin typeface="Arial"/>
              </a:rPr>
              <a:t>Incidence</a:t>
            </a:r>
            <a:r>
              <a:rPr b="1" lang="en-US" sz="2300" spc="-1" strike="noStrike">
                <a:solidFill>
                  <a:srgbClr val="ffe701"/>
                </a:solidFill>
                <a:latin typeface="Arial"/>
              </a:rPr>
              <a:t> describes the input flow of new cases into the pool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99"/>
                </a:solidFill>
                <a:latin typeface="Arial"/>
              </a:rPr>
              <a:t>•  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Fatality and recovery reflects the output flow from the pool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02T17:26:32Z</dcterms:modified>
  <cp:revision>168</cp:revision>
  <dc:subject/>
  <dc:title/>
</cp:coreProperties>
</file>